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2E4-3278-44CE-AE15-9B6DE404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019-36B9-469D-8F6D-C473418A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2DD-EBDF-481B-9054-45BB1A37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7F3-2EA1-4793-A367-D6B932AE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0ED6-8B9D-407D-8FAB-CAE5FB2C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CA9C-A46D-48BE-B6A1-FB8DB7C4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CC05-E865-44D1-8EF2-10F8927D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961D-AA80-4C3E-B9A2-06725035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DD69-D19F-4761-85E5-9FB646FB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4523-F92C-49D0-A96C-7D591301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6060-106A-4F9E-A873-AA740AC7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F24-3A35-49CB-AD57-51068910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50B6-F2FA-4BCC-B2E0-6767475E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C35A-3F14-4ADE-A345-AEF0667D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179A-D51B-4C6D-BA24-084F44F5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B1D4-70A8-490A-A700-A5D8EF8C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03B4-21C2-4E3D-BB19-BA0A9F11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BEC-1789-4272-83C3-BE17B995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1E17-F56F-4603-A0EC-7D88C7CF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90D-1BF8-45F5-A8D8-0643E85A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1CB-664D-4138-AB79-44F18419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DEE-554E-46C1-A378-E0F252FC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001-F391-43C7-9879-7F76ACD1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ADB-39FC-4C94-AF42-62707DDB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6665-9CC1-43A8-A5FC-9E9126E27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E5C4-1DB5-4DD0-B03E-94B5CE65A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ow Long, O Lord?”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3, Lesson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Peter 3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34-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8E6D-B703-41A5-8E5F-5B60882FFB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epare For The End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4:7-1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ings will end; therefore be serious and watchful in your pr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fervent love for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spitable, don’t grum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speaks, let him speak as the oracles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er with the ability which God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lory belongs to God through Jesus Chr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A0D-CDB9-43F4-9878-3DCE76519E38}" type="slidenum">
              <a:t>10</a:t>
            </a:fld>
          </a:p>
        </p:txBody>
      </p:sp>
    </p:spTree>
  </p:cSld>
  <p:transition>
    <p:cover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ndure Suffering As A Christian                    1 Peter 4:12-1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be surprised by the fiery trial which is to try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oice as you partake of Christ’s suff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blessed should you be reproached for the nam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suffer as a murderer or evildo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suffer as a christian, don’t be ashamed but glorify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8E6-208E-4084-85DD-85E2DB2AB78E}" type="slidenum">
              <a:t>11</a:t>
            </a:fld>
          </a:p>
        </p:txBody>
      </p:sp>
    </p:spTree>
  </p:cSld>
  <p:transition>
    <p:newsflash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ndure Suffering As A Christian                    1 Peter 4:12-19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has come for judgement to begin at the house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be the end of those who do not obey the gospel of Go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DC3-BC32-4BB3-8424-EDC42117908D}" type="slidenum">
              <a:t>12</a:t>
            </a:fld>
          </a:p>
        </p:txBody>
      </p:sp>
    </p:spTree>
  </p:cSld>
  <p:transition>
    <p:push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structions To Elder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5:1-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pherd the flock of God which is among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it willingly and not for dishonest 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lord it over the flock, but be an example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661-5944-4EAE-A510-859B61442B93}" type="slidenum">
              <a:t>13</a:t>
            </a:fld>
          </a:p>
        </p:txBody>
      </p:sp>
    </p:spTree>
  </p:cSld>
  <p:transition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 Humble, Beware Of Satan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5:5-1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umble, willing to serve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the young be subject to those who are 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 all your cares upon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ober, be vigilant, resisting the d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you have suffered a while, may God strengthen and establish you, for to Him be the glory and dominion fo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22A-58CD-4D6D-B663-44B9EA8C59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85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385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85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385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385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385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385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385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8" dur="385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0" dur="385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385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385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385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385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85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385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385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385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v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1-6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ubmissive to your husb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husbands may not have obeyed the word, but without a word may be won by the conduct of their w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prive one another for a time except with consent  1 Cor. 7:5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together again, don’t lose self-control  1 Cor. 7:5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know, o wife, whether you will save your husband...? 1 Cor. 7: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4B6-FEBE-446D-A2DA-DD91D6C875B6}" type="slidenum">
              <a:t>2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ve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1-6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ves, don’t concentrate on your outward adorning, but let it be the hidden person of 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entle and quiet spirit is very precious in the sight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In this manner the holy women of old beha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Sarah obeyed Abraham calling him l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A5A-3E80-4A46-A230-00AD9BA394A5}" type="slidenum">
              <a:t>3</a:t>
            </a:fld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usband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7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sbands dwell with your wives with underst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them as the weaker vessel and do not mistreat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nor them and remember you are joint heirs of the grace of life wit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them properly so your prayers may not be hind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E95-523C-40E2-A7F2-764081A512C4}" type="slidenum">
              <a:t>4</a:t>
            </a:fld>
          </a:p>
        </p:txBody>
      </p:sp>
    </p:spTree>
  </p:cSld>
  <p:transition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otherly Lov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8-1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ll be of one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mpassionate, tenderhearted, courte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 blessing to others, not returning evil for evil or reviling for rev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pense to no man evil for evil” (Rom 12: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yourself were called to inherit a bl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would love life and see good days, refrain his tongue from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B40-127A-4C65-A133-7A6A627E7B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rotherly Lov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8-1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your lips from speaking guile and turn away from evil and do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peace and pursue it for the eyes of the Lord are on the right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rs of the Lord are open to the prayers of the righteous and His face is against those who do 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6F7-382B-46E2-9369-045F762AFF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ffering For Right And Wrong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13-2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should suffer for righteousness sake, you are bl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be afraid if you are threatened, but sanctify the Lord God in your hearts and be ready to give a reason for the hope that is in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a good conscience so those who revile your good conduct in Christ may be ash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6BD-861C-402A-A27B-7E10AA28C1F7}" type="slidenum">
              <a:t>7</a:t>
            </a:fld>
          </a:p>
        </p:txBody>
      </p:sp>
    </p:spTree>
  </p:cSld>
  <p:transition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ffering For Right And Wrong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3:13-2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better to suffer for doing right than for doing w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suffered “once for all”, the just for the unj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Spirit He (Christ) preached to the spirits in prison in the days of No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ht souls were saved through water (Noah and his family) and there is an antitype which now saves us, bap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DD6-E899-40A2-9FA4-3B4D993C1E34}" type="slidenum">
              <a:t>8</a:t>
            </a:fld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Security Of The Faithful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Peter 4:1-6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 yourselves with the mind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live in the flesh for the lusts of men, but for the will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, we have spent enough of our time walking in various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continue to walk in this flood of dissipation will give an account to Him who is ready to judge the living and the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F26-A4B2-4350-B2D6-B50A637B2C8B}" type="slidenum">
              <a:t>9</a:t>
            </a:fld>
          </a:p>
        </p:txBody>
      </p:sp>
    </p:spTree>
  </p:cSld>
  <p:transition>
    <p:cover dir="l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4:07:34Z</dcterms:created>
  <dc:creator>billy lauderdale</dc:creator>
  <dc:description/>
  <dc:language>en-US</dc:language>
  <cp:lastModifiedBy>Frank D Vines</cp:lastModifiedBy>
  <dcterms:modified xsi:type="dcterms:W3CDTF">2007-04-23T15:30:55Z</dcterms:modified>
  <cp:revision>22</cp:revision>
  <dc:subject/>
  <dc:title>Slide 1</dc:title>
</cp:coreProperties>
</file>